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30.gif" ContentType="image/gif"/>
  <Override PartName="/ppt/media/image20.gif" ContentType="image/gif"/>
  <Override PartName="/ppt/media/image13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15.jpeg" ContentType="image/jpeg"/>
  <Override PartName="/ppt/media/image29.gif" ContentType="image/gif"/>
  <Override PartName="/ppt/media/image9.wmf" ContentType="image/x-wmf"/>
  <Override PartName="/ppt/media/image11.gif" ContentType="image/gif"/>
  <Override PartName="/ppt/media/image8.gif" ContentType="image/gif"/>
  <Override PartName="/ppt/media/image38.gif" ContentType="image/gif"/>
  <Override PartName="/ppt/media/image25.png" ContentType="image/png"/>
  <Override PartName="/ppt/media/image22.gif" ContentType="image/gif"/>
  <Override PartName="/ppt/media/image2.png" ContentType="image/png"/>
  <Override PartName="/ppt/media/image10.wmf" ContentType="image/x-wmf"/>
  <Override PartName="/ppt/media/image12.png" ContentType="image/png"/>
  <Override PartName="/ppt/media/image7.gif" ContentType="image/gif"/>
  <Override PartName="/ppt/media/image32.jpeg" ContentType="image/jpeg"/>
  <Override PartName="/ppt/media/image37.jpeg" ContentType="image/jpeg"/>
  <Override PartName="/ppt/media/image39.gif" ContentType="image/gif"/>
  <Override PartName="/ppt/media/image36.gif" ContentType="image/gif"/>
  <Override PartName="/ppt/media/image6.gif" ContentType="image/gif"/>
  <Override PartName="/ppt/media/image24.png" ContentType="image/png"/>
  <Override PartName="/ppt/media/image31.gif" ContentType="image/gif"/>
  <Override PartName="/ppt/media/image35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4.gif" ContentType="image/gif"/>
  <Override PartName="/ppt/media/image3.png" ContentType="image/png"/>
  <Override PartName="/ppt/media/image33.gif" ContentType="image/gif"/>
  <Override PartName="/ppt/media/image26.png" ContentType="image/png"/>
  <Override PartName="/ppt/media/image1.png" ContentType="image/png"/>
  <Override PartName="/ppt/media/image19.gif" ContentType="image/gif"/>
  <Override PartName="/ppt/media/image14.png" ContentType="image/png"/>
  <Override PartName="/ppt/media/image21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19"/>
          </p:nvPr>
        </p:nvSpPr>
        <p:spPr>
          <a:xfrm>
            <a:off x="3884760" y="-36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0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23F86-FDC0-47DA-ABB8-051BFF0A9F5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5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AF81D-A66A-4515-912F-4C2A1FFA8A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BAB08-5C33-45A5-8755-5BF48876B4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C82BD-4731-4F30-BFAC-81157210C4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0096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92DAC-A441-4101-875E-56B35DEA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399C6-C3EC-44C6-88FC-5ECEFE26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45C62-0F6D-4336-8A3B-EF9ADF79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248760"/>
            <a:ext cx="86533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5EE1C-3F15-4968-A712-6B575596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48A7B-C496-4E3E-874B-3244E152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3904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91425-EEE4-4555-B5AB-3A8C4300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A563D-AFB0-49D4-839F-08DC70A9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0096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0138D-AA1F-4C91-BC9F-93437499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3904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CBC89-D81C-4D2D-A2EA-754D4901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028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5600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028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5600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7272D-2F31-4476-945A-8AE6DD4BB8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3904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70D73-C09F-495E-8D1B-7E12F1A1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028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600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028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600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9E9F0-63A0-4D4A-BD76-63860CCB40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B4D6A-69D1-464C-A279-A9B728D1E6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59365-FD50-4F53-B2E3-A2C2C806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6FD20-1CF0-44F3-8EBB-216F440E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E6294-7970-4311-83F6-F61B2E4E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4985D-6007-4331-B748-5732E415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248760"/>
            <a:ext cx="86533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02945-B3A2-49D5-BA54-2382C887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060BB-2716-4D6C-9956-356A0A04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717C4-0C57-46E1-B6D3-6BD2068B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3904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B21A0-D39A-4EB8-BFBE-35B7B7BA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CF9CE-81DB-4969-9EE4-A8157BF2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0096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54A93-49C5-449E-AA9E-DBC56C47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3904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C4E4C-A716-4381-93C8-1F034408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028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5600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028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5600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5239A-3FA9-4C0E-94AF-4B62D6B79A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00C4-A0A9-45FA-B399-D170CCFA5C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4835-7918-4875-B96E-1EBB4764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F55D-0358-489A-AC75-56016B49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96B9-014B-42B0-9D60-815C4FB3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5010-67F4-45F8-A014-C549DC8F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BCE6F-5E8A-4F70-868C-1E72A45A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248760"/>
            <a:ext cx="86533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2EA7-E4C6-41FB-A9B3-70C7B9B6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9C2B-40A9-4EC6-AD21-F9765C19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3904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4C07-4A37-4939-A9AC-F15DDA16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F34E-006A-450A-AF85-7FFF31C9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0096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3135-3AE2-43A6-BC16-1A33E479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3904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18BB-07C8-44CC-90C1-2AA616C3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028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5600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028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5600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490F-B04E-47AC-919F-540B269CF2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67E76-2DA4-4F82-9163-37A810F015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E14B0-6638-4700-ABFE-08E496C1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3EB47-315A-4056-BFF5-5040A67A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B1438-382F-4A73-B978-C427A57F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796D1-53D6-458C-BDFD-C57B6F1D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8BCFB-0A7E-4970-96E6-78883EF1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248760"/>
            <a:ext cx="86533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E8126-8822-41DA-8600-120EDE51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84EC7-D55B-499D-A5D5-7979CC4B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3904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90635-A5C1-4715-8902-D262C5A4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8DC71-5DF3-4EC3-87DD-06963FCF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0096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16263-ACFA-4FC7-A643-C11F50BB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3904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B5C8F-C687-4236-951D-1CBF8372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028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5600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028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5600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EB1DD-47C7-4EFC-8B03-83E2003377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3A79B1-382F-487F-9047-C0E0079E13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2076-945A-48FE-8F05-84967D8D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8CCD57-2B90-401C-A9DB-5A86053B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4AB71B-8AF4-4A4B-A007-18DB1AD8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16EB90-C3A8-4316-B738-AD7606DB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268988-C6BC-4127-8997-819D873A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248760"/>
            <a:ext cx="86533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29E272-80C1-46AB-91A4-3521128D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AB6BD9-C1F5-40A0-919D-E29E6FAC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3904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1DB610-67DF-4B63-B837-2367F053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3CC2D2-DEA3-4369-8DF7-EB35C83F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0096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B2F3CA-CF4D-4E4E-93D3-B2D18F82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3904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3CD5C5-9584-483D-8EC0-EAE9B924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248760"/>
            <a:ext cx="86533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8DA3-E5FE-49F0-9C5D-1240A945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028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5600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028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5600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A6B871-5E89-42E8-8609-A1C9A51A50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BCC31-D01D-44FF-8DB5-063673C01F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4C34D-9A4A-47B6-B8A7-F556DB00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923EB-C9D4-49A8-B3B5-343506B5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61F0D-410F-4996-B772-B48868F4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1EA13-6F14-41F9-AFE3-D11378B6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248760"/>
            <a:ext cx="86533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CD55F-E454-4115-B217-9A74E03C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BD72E-437F-4790-B34F-40AD3CC8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3904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E8CB3-58F5-4FD9-A1E8-B8460CCE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D337F-E25D-4A07-BF8E-BBA319F3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C6B3A-303C-447A-B558-C81D798F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0096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2C8AA-EF4C-487D-BBCE-FBEA1322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3904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7AE95-104D-4427-892B-95B45F93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028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5600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028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5600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8FC76-B180-4645-8C37-D9E29AAC8E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183A13-688B-422F-9D20-C98BA4C493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AA9A1A-92ED-4BEB-9957-B269D460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ED4D6-1A03-4652-B815-8C545908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8F7C6-81B9-4AF7-A18E-95FE279D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342905-339F-4FC3-9197-B8DEAE7C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248760"/>
            <a:ext cx="86533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A658E-AC70-48D2-A30F-FE622893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92DA4E-70CD-40D5-A265-ECA958B8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3904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FAE7-A34B-4BB8-8B51-9A99C6DC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3904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0A1E60-2618-4D93-A5AF-17DDBE93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DFB47-7B00-4FCE-9C67-6D60B405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0096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273144-BEF7-4DAC-9F31-81F51C73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3904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EEC08-A914-4767-98A9-E04C24ED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028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5600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028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5600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38201A-47B9-4EAC-9C23-270481738C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A2A884-A9D4-4A19-8857-94715CDBEC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75CEFD-AFCD-48DF-A20B-C54EBE71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1FA036-5638-4336-BCB9-FF5B9A2D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3D7B84-BA5F-4AEF-9A2E-CF82285D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397F0C-F2F4-451F-B338-B703CE62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E80EF-874F-4AF0-8770-2FAA82BD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248760"/>
            <a:ext cx="86533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EB420C-A4BB-4F9F-8B05-580E8125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5A9FE2-AA4E-4D4B-896A-7B547CF4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3904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0D39EF-C348-446D-AC57-8727CCDB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8C9E95-FAC9-41AE-B423-459E2298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00960"/>
            <a:ext cx="8653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ACA958-277E-449B-8107-4682C93E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39040" y="155412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39040" y="3900960"/>
            <a:ext cx="4222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ED0642-09C2-46A7-8D44-4A6AF87C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028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56000" y="155412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028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56000" y="3900960"/>
            <a:ext cx="2786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4D1F94-8456-46A6-BCC3-A09A296C6E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4EB0D-8B9E-43AB-B7E2-6107265F85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03E1A-0875-435C-A9C1-883074B2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5CF07-4B4D-46EC-9D03-4F877AB6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48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763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6477120"/>
            <a:ext cx="728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7AC43-0F68-4B9D-A35F-CC5ACE1BCFB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5960"/>
            <a:ext cx="2481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25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956A035-7411-4D4A-9BBF-E5A2911D03DC}" type="slidenum">
              <a: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5960"/>
            <a:ext cx="2481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25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372A9A4-12C7-4B72-91DD-9082F0825EAD}" type="slidenum">
              <a: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5960"/>
            <a:ext cx="2481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28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8739706-2336-4EC7-9583-65368677C7D2}" type="slidenum">
              <a: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75960"/>
            <a:ext cx="2481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28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3374B53-71D3-4423-B90F-F6D2616FF125}" type="slidenum">
              <a: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75960"/>
            <a:ext cx="2481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6760"/>
            <a:ext cx="728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3555ED4-0132-44E5-BA1F-8817D5497003}" type="slidenum">
              <a: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75960"/>
            <a:ext cx="2481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6760"/>
            <a:ext cx="728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39B2104-DFC0-4E20-AE67-9BEDD7BA0589}" type="slidenum">
              <a: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75960"/>
            <a:ext cx="2481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6760"/>
            <a:ext cx="728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18F7EDB-2B82-43D8-92D1-BD4989EFD5B0}" type="slidenum">
              <a: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53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248760"/>
            <a:ext cx="86533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75960"/>
            <a:ext cx="2481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6760"/>
            <a:ext cx="728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43C9388-BE16-4A43-9D86-48C9A064ECCC}" type="slidenum">
              <a:rPr b="0" lang="ru-RU" sz="1200" spc="-1" strike="noStrike">
                <a:solidFill>
                  <a:srgbClr val="0c61a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6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0.gif"/><Relationship Id="rId7" Type="http://schemas.openxmlformats.org/officeDocument/2006/relationships/image" Target="../media/image31.gif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33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33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33.gif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image" Target="../media/image33.gif"/><Relationship Id="rId11" Type="http://schemas.openxmlformats.org/officeDocument/2006/relationships/image" Target="../media/image34.gif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image" Target="../media/image33.gif"/><Relationship Id="rId14" Type="http://schemas.openxmlformats.org/officeDocument/2006/relationships/hyperlink" Target="file:///tmp/home/.config/libreoffice/4/user/gallery/chimes.wav" TargetMode="External"/><Relationship Id="rId15" Type="http://schemas.openxmlformats.org/officeDocument/2006/relationships/image" Target="../media/image33.gif"/><Relationship Id="rId1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9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179280" y="0"/>
            <a:ext cx="8572680" cy="6858000"/>
            <a:chOff x="179280" y="0"/>
            <a:chExt cx="8572680" cy="6858000"/>
          </a:xfrm>
        </p:grpSpPr>
        <p:pic>
          <p:nvPicPr>
            <p:cNvPr id="428" name="" descr=""/>
            <p:cNvPicPr/>
            <p:nvPr/>
          </p:nvPicPr>
          <p:blipFill>
            <a:blip r:embed="rId2"/>
            <a:srcRect l="6425" t="5291" r="6864" b="6471"/>
            <a:stretch/>
          </p:blipFill>
          <p:spPr>
            <a:xfrm>
              <a:off x="179280" y="0"/>
              <a:ext cx="8572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179280" y="0"/>
              <a:ext cx="8572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7500960" y="4479840"/>
            <a:ext cx="1643040" cy="23781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0" y="14292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5"/>
          <a:stretch/>
        </p:blipFill>
        <p:spPr>
          <a:xfrm>
            <a:off x="360360" y="4680000"/>
            <a:ext cx="2009880" cy="21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619280" y="18003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  <a:ea typeface="SimSun"/>
              </a:rPr>
              <a:t>УРА!  Мы сделали открытие!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"/>
          <p:cNvSpPr/>
          <p:nvPr/>
        </p:nvSpPr>
        <p:spPr>
          <a:xfrm>
            <a:off x="131760" y="-1022400"/>
            <a:ext cx="88930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2843280" y="3860640"/>
            <a:ext cx="3619440" cy="18878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539640" y="3600360"/>
            <a:ext cx="1800360" cy="21416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4"/>
          <a:stretch/>
        </p:blipFill>
        <p:spPr>
          <a:xfrm>
            <a:off x="6534000" y="3187800"/>
            <a:ext cx="2571840" cy="28796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5"/>
          <a:stretch/>
        </p:blipFill>
        <p:spPr>
          <a:xfrm>
            <a:off x="623880" y="1258920"/>
            <a:ext cx="1355760" cy="14414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6"/>
          <a:stretch/>
        </p:blipFill>
        <p:spPr>
          <a:xfrm>
            <a:off x="7740720" y="1079640"/>
            <a:ext cx="1414440" cy="18730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7"/>
          <a:stretch/>
        </p:blipFill>
        <p:spPr>
          <a:xfrm>
            <a:off x="3130560" y="360360"/>
            <a:ext cx="1728720" cy="14400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8"/>
          <a:stretch/>
        </p:blipFill>
        <p:spPr>
          <a:xfrm>
            <a:off x="5940360" y="395280"/>
            <a:ext cx="10670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560" y="252000"/>
            <a:ext cx="86598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Franklin Gothic Medium"/>
              </a:rPr>
              <a:t>ПРОВЕРЬ  СЕБЯ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476280" y="4140360"/>
            <a:ext cx="2584440" cy="26636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5940360" y="3995640"/>
            <a:ext cx="2578320" cy="26640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360360" y="1979640"/>
            <a:ext cx="878364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Х + 5 = 6    Х + 7 = 10    5 - Х = 4    10 - Х = 5    Х + 3 = 4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Х = 1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Х = 3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Х = 1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Х = 5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Х = 1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1 + 5 = 6    3 + 7 = 10   5 - 1 = 4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10 - 5 = 5    1 + 3 = 4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6 = 6           10 = 10       4 = 4          5 = 5            4 = 4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4"/>
          <a:stretch/>
        </p:blipFill>
        <p:spPr>
          <a:xfrm>
            <a:off x="3600360" y="4500720"/>
            <a:ext cx="161928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0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 fill="hold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>
            <a:lum bright="18000"/>
          </a:blip>
          <a:srcRect l="3665" t="0" r="0" b="0"/>
          <a:stretch/>
        </p:blipFill>
        <p:spPr>
          <a:xfrm>
            <a:off x="1187280" y="2421000"/>
            <a:ext cx="1873440" cy="170964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6804000" y="476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>
            <a:lum bright="18000"/>
          </a:blip>
          <a:srcRect l="3811" t="0" r="0" b="0"/>
          <a:stretch/>
        </p:blipFill>
        <p:spPr>
          <a:xfrm>
            <a:off x="539640" y="479736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6">
            <a:lum bright="18000"/>
          </a:blip>
          <a:srcRect l="3811" t="0" r="0" b="0"/>
          <a:stretch/>
        </p:blipFill>
        <p:spPr>
          <a:xfrm>
            <a:off x="395280" y="26028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7">
            <a:lum bright="18000"/>
          </a:blip>
          <a:srcRect l="3908" t="0" r="0" b="0"/>
          <a:stretch/>
        </p:blipFill>
        <p:spPr>
          <a:xfrm>
            <a:off x="6732720" y="4869000"/>
            <a:ext cx="1798560" cy="16063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8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fill="hold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0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withEffect" fill="hold" presetClass="path" presetID="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0.04325 L 0.33472 -0.23983 L 0.58681 0.04325 L 0.33472 0.32678 L 0.08281 0.04325 Z">
                                      <p:cBhvr>
                                        <p:cTn id="108" dur="5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dur="indefinite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4325 C 0.08282 -0.10985 0.17761 -0.23474 0.29393 -0.23474 C 0.41094 -0.23474 0.50591 -0.10985 0.50591 0.04325 C 0.50573 0.19611 0.4106 0.32123 0.29428 0.32123 C 0.17761 0.32123 0.08282 0.19611 0.08282 0.04325 Z">
                                      <p:cBhvr>
                                        <p:cTn id="111" dur="5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dur="indefinite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3" dur="indefinite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73 -0.33449 C 0.20486 -0.33449 0.14566 -0.25857 0.14566 -0.16528 C 0.14566 -0.05579 0.21111 -0.01621 0.25069 0.00046 L 0.30278 0.01782 C 0.34219 0.03495 0.40781 0.07685 0.40781 0.20069 C 0.40781 0.28032 0.34861 0.3706 0.27673 0.3706 C 0.20486 0.3706 0.14566 0.28032 0.14566 0.20069 C 0.14566 0.07685 0.21128 0.03495 0.25069 0.01782 L 0.30278 0.00046 C 0.34219 -0.01621 0.40781 -0.05579 0.40781 -0.16528 C 0.40781 -0.25857 0.34861 -0.33449 0.27673 -0.33449 Z">
                                      <p:cBhvr>
                                        <p:cTn id="114" dur="5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dur="indefinite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 fill="hold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dur="indefinite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 fill="hold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dur="indefinite" fill="hold">
                            <p:stCondLst>
                              <p:cond delay="32500"/>
                            </p:stCondLst>
                            <p:childTnLst>
                              <p:par>
                                <p:cTn id="12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 fill="hold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dur="indefinite" fill="hold">
                            <p:stCondLst>
                              <p:cond delay="33500"/>
                            </p:stCondLst>
                            <p:childTnLst>
                              <p:par>
                                <p:cTn id="1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 fill="hold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dur="indefinite" fill="hold">
                            <p:stCondLst>
                              <p:cond delay="35500"/>
                            </p:stCondLst>
                            <p:childTnLst>
                              <p:par>
                                <p:cTn id="13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 fill="hold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dur="indefinite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dur="indefinite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dur="indefinite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 fill="hold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dur="indefinite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 fill="hold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928800" y="1357200"/>
            <a:ext cx="1071360" cy="35067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4"/>
          <a:stretch/>
        </p:blipFill>
        <p:spPr>
          <a:xfrm>
            <a:off x="8072280" y="428760"/>
            <a:ext cx="1071720" cy="35067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5"/>
          <a:stretch/>
        </p:blipFill>
        <p:spPr>
          <a:xfrm>
            <a:off x="5214960" y="2857680"/>
            <a:ext cx="1095480" cy="8175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6"/>
          <a:stretch/>
        </p:blipFill>
        <p:spPr>
          <a:xfrm>
            <a:off x="3643200" y="428760"/>
            <a:ext cx="1071720" cy="35067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7"/>
          <a:stretch/>
        </p:blipFill>
        <p:spPr>
          <a:xfrm>
            <a:off x="5500800" y="642960"/>
            <a:ext cx="1095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28880" y="0"/>
            <a:ext cx="1500120" cy="14288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43040" y="2714760"/>
            <a:ext cx="1714680" cy="15714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86240" y="1143000"/>
            <a:ext cx="1571760" cy="142884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357720"/>
            <a:ext cx="1571760" cy="164304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11"/>
          <a:stretch/>
        </p:blipFill>
        <p:spPr>
          <a:xfrm>
            <a:off x="7000920" y="714240"/>
            <a:ext cx="1857240" cy="22957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85840" y="1500120"/>
            <a:ext cx="1571400" cy="15001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4214880" y="5000760"/>
            <a:ext cx="4929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 Black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14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429680" y="3143160"/>
            <a:ext cx="171432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rcRect l="0" t="14040" r="1784" b="12770"/>
          <a:stretch/>
        </p:blipFill>
        <p:spPr>
          <a:xfrm>
            <a:off x="255600" y="1084320"/>
            <a:ext cx="5143320" cy="52149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4357800" y="15001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4"/>
          <a:stretch/>
        </p:blipFill>
        <p:spPr>
          <a:xfrm>
            <a:off x="4071960" y="45007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5"/>
          <a:stretch/>
        </p:blipFill>
        <p:spPr>
          <a:xfrm>
            <a:off x="214200" y="10717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6"/>
          <a:stretch/>
        </p:blipFill>
        <p:spPr>
          <a:xfrm>
            <a:off x="0" y="2286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7"/>
          <a:stretch/>
        </p:blipFill>
        <p:spPr>
          <a:xfrm>
            <a:off x="2928960" y="585792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611280" y="18900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8"/>
          <a:stretch/>
        </p:blipFill>
        <p:spPr>
          <a:xfrm>
            <a:off x="4214880" y="5643720"/>
            <a:ext cx="938160" cy="88236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9"/>
          <a:stretch/>
        </p:blipFill>
        <p:spPr>
          <a:xfrm>
            <a:off x="7715160" y="214200"/>
            <a:ext cx="938160" cy="88272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10"/>
          <a:stretch/>
        </p:blipFill>
        <p:spPr>
          <a:xfrm>
            <a:off x="6786720" y="4572000"/>
            <a:ext cx="938160" cy="8827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5286240" y="1928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1"/>
          <a:stretch/>
        </p:blipFill>
        <p:spPr>
          <a:xfrm>
            <a:off x="5759280" y="1066680"/>
            <a:ext cx="288000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7643880" y="0"/>
            <a:ext cx="1714320" cy="17049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0" y="4286160"/>
            <a:ext cx="1928880" cy="23860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285840" y="142920"/>
            <a:ext cx="735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за работу!</a:t>
            </a:r>
            <a:endParaRPr b="0" lang="en-US" sz="6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-214200" y="214200"/>
            <a:ext cx="6143400" cy="64468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1928880" y="428760"/>
            <a:ext cx="4808520" cy="5976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2857680" y="1500120"/>
            <a:ext cx="36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Monotype Corsiva"/>
              </a:rPr>
              <a:t>20 декабря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Monotype Corsiva"/>
              </a:rPr>
              <a:t>Классная работа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7929720" y="3643200"/>
            <a:ext cx="938160" cy="8827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5"/>
          <a:stretch/>
        </p:blipFill>
        <p:spPr>
          <a:xfrm>
            <a:off x="7143840" y="285840"/>
            <a:ext cx="938160" cy="8827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6"/>
          <a:stretch/>
        </p:blipFill>
        <p:spPr>
          <a:xfrm>
            <a:off x="8205840" y="1500120"/>
            <a:ext cx="938160" cy="8827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7"/>
          <a:stretch/>
        </p:blipFill>
        <p:spPr>
          <a:xfrm>
            <a:off x="6858000" y="4500720"/>
            <a:ext cx="938160" cy="882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8"/>
          <a:stretch/>
        </p:blipFill>
        <p:spPr>
          <a:xfrm>
            <a:off x="6929280" y="2286000"/>
            <a:ext cx="938520" cy="8827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9"/>
          <a:stretch/>
        </p:blipFill>
        <p:spPr>
          <a:xfrm>
            <a:off x="7929720" y="5643720"/>
            <a:ext cx="938160" cy="88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142920" y="35712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зовите    выражения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"/>
          <p:cNvSpPr/>
          <p:nvPr/>
        </p:nvSpPr>
        <p:spPr>
          <a:xfrm>
            <a:off x="142920" y="1071720"/>
            <a:ext cx="900108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24 + 3 =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      </a:t>
            </a: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+ 4 = 12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53 — 3 &gt; 20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а + 5, где а = 7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Х + 4 = 12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6711840" y="4425840"/>
            <a:ext cx="2151000" cy="2151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385920" y="173520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2867040" y="1079640"/>
            <a:ext cx="1452600" cy="126036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4680000" y="3476520"/>
            <a:ext cx="1619280" cy="18669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4319640" y="1979640"/>
            <a:ext cx="1619280" cy="14400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179280" y="-3522600"/>
            <a:ext cx="5400720" cy="18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24 + 3 =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      </a:t>
            </a: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+ 4 = 12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  <a:ea typeface="Lucida Sans Unicod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  <a:ea typeface="Lucida Sans Unicode"/>
              </a:rPr>
              <a:t>а + 5, где а=7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Х + 4 = 12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0" name=""/>
          <p:cNvSpPr/>
          <p:nvPr/>
        </p:nvSpPr>
        <p:spPr>
          <a:xfrm>
            <a:off x="214200" y="214200"/>
            <a:ext cx="842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йдите значения выражений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"/>
          <p:cNvSpPr/>
          <p:nvPr/>
        </p:nvSpPr>
        <p:spPr>
          <a:xfrm>
            <a:off x="2879640" y="1214280"/>
            <a:ext cx="447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4907520" y="22352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"/>
          <p:cNvSpPr/>
          <p:nvPr/>
        </p:nvSpPr>
        <p:spPr>
          <a:xfrm>
            <a:off x="5098680" y="3959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5"/>
          <a:stretch/>
        </p:blipFill>
        <p:spPr>
          <a:xfrm>
            <a:off x="5040360" y="5400720"/>
            <a:ext cx="1619280" cy="126036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6"/>
          <a:stretch/>
        </p:blipFill>
        <p:spPr>
          <a:xfrm>
            <a:off x="6492960" y="2279520"/>
            <a:ext cx="2657520" cy="32623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4534560" y="5400720"/>
            <a:ext cx="47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 Black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"/>
          <p:cNvSpPr/>
          <p:nvPr/>
        </p:nvSpPr>
        <p:spPr>
          <a:xfrm>
            <a:off x="385920" y="234000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 fill="hold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 fill="hold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 fill="hold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 fill="hold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 fill="hold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 fill="hold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-214200" y="214200"/>
            <a:ext cx="6143400" cy="64468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1928880" y="428760"/>
            <a:ext cx="4808520" cy="59767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2857680" y="1500120"/>
            <a:ext cx="36432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Monotype Corsiva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Monotype Corsiva"/>
              </a:rPr>
              <a:t>Уравнение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7929720" y="3643200"/>
            <a:ext cx="938160" cy="8827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5"/>
          <a:stretch/>
        </p:blipFill>
        <p:spPr>
          <a:xfrm>
            <a:off x="7143840" y="285840"/>
            <a:ext cx="938160" cy="8827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6"/>
          <a:stretch/>
        </p:blipFill>
        <p:spPr>
          <a:xfrm>
            <a:off x="8205840" y="1500120"/>
            <a:ext cx="938160" cy="8827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7"/>
          <a:stretch/>
        </p:blipFill>
        <p:spPr>
          <a:xfrm>
            <a:off x="6858000" y="4500720"/>
            <a:ext cx="938160" cy="8823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8"/>
          <a:stretch/>
        </p:blipFill>
        <p:spPr>
          <a:xfrm>
            <a:off x="6929280" y="2286000"/>
            <a:ext cx="938520" cy="8827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9"/>
          <a:stretch/>
        </p:blipFill>
        <p:spPr>
          <a:xfrm>
            <a:off x="7929720" y="5643720"/>
            <a:ext cx="938160" cy="88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176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Franklin Gothic Medium"/>
              </a:rPr>
              <a:t>Задачи:</a:t>
            </a:r>
            <a:endParaRPr b="0" lang="en-US" sz="44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68" name=""/>
          <p:cNvSpPr/>
          <p:nvPr/>
        </p:nvSpPr>
        <p:spPr>
          <a:xfrm>
            <a:off x="990720" y="1800360"/>
            <a:ext cx="6929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знаем, что называют уравнением.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удем учиться решать уравнения.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0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40000" y="2340000"/>
            <a:ext cx="868176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Franklin Gothic Medium"/>
              </a:rPr>
              <a:t>Х + 4 = 12</a:t>
            </a:r>
            <a:endParaRPr b="0" lang="en-US" sz="6000" spc="-1" strike="noStrike">
              <a:solidFill>
                <a:srgbClr val="04617b"/>
              </a:solidFill>
              <a:latin typeface="Franklin Gothic Mediu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17160" y="1317600"/>
            <a:ext cx="868212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Franklin Gothic Medium"/>
              </a:rPr>
              <a:t>Х + 4 = 12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Franklin Gothic Medium"/>
              </a:rPr>
              <a:t>Х = 8</a:t>
            </a:r>
            <a:endParaRPr b="0" lang="en-US" sz="6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73" name=""/>
          <p:cNvSpPr/>
          <p:nvPr/>
        </p:nvSpPr>
        <p:spPr>
          <a:xfrm>
            <a:off x="131760" y="465120"/>
            <a:ext cx="88930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3240000" y="3600360"/>
            <a:ext cx="25718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83840" y="1079640"/>
            <a:ext cx="86598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Franklin Gothic Medium"/>
              </a:rPr>
              <a:t>Уравнение</a:t>
            </a:r>
            <a:r>
              <a:rPr b="0" lang="ru-RU" sz="3600" spc="-1" strike="noStrike">
                <a:solidFill>
                  <a:srgbClr val="04617b"/>
                </a:solidFill>
                <a:latin typeface="Franklin Gothic Medium"/>
              </a:rPr>
              <a:t>  —  это  равенство,  которое  содержит  неизвестное  число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360000" y="2790720"/>
            <a:ext cx="8659800" cy="29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Решить    уравнение  </a:t>
            </a: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—  значит      найти неизвестное число, чтобы  равенство стало верным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6:33:11Z</dcterms:created>
  <dc:creator>Лёха</dc:creator>
  <dc:description/>
  <dc:language>en-US</dc:language>
  <cp:lastModifiedBy>Natali</cp:lastModifiedBy>
  <dcterms:modified xsi:type="dcterms:W3CDTF">2010-01-17T08:41:18Z</dcterms:modified>
  <cp:revision>74</cp:revision>
  <dc:subject/>
  <dc:title>Слайд 1</dc:title>
</cp:coreProperties>
</file>